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86B-6C1D-40DC-8750-5687D5C5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5AA-3806-4E62-B202-3A3B4E4B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613-5D72-4EFC-8241-6E105EB7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2EC-BE35-4C2A-9009-7400CB78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5AA-E084-4048-8F63-D08A3E32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B86-C702-4EF3-A4FF-E3051C0B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B5A-CFA5-4A87-8C32-4C971BB3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A2C-8498-432C-BCCF-2C0AB9DA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9CC-9298-496B-8B62-F73AC0F7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C0D-0DE6-474C-A793-E57BDB40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55C-93F8-401E-B959-9F5E6A2F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279-0ED9-47EB-BA6F-29DCBB62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055F-001A-4D5B-8E2C-045D689D4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7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lm chvál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alm chvály n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vrúcnych sŕdc Pánovi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ď ľud jeho opäť sa zhromaždiť sm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dnes 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sám chce nám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íl zo zdroja vôd živ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á načerpa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vzácny ten Boži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koja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ýhľad nám nehalí starostí ti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s láskou nás k sebe zve z únavných cies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prístavu pokoja chce všetkých vies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nes môžeme v zábleskoch poznávať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plného pozna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žiari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u hriech nieti v nás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nohú úzkosť a sto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 víťazných piesní le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nieť bude tón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príbytkov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Pán kra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viery zrak s dôverou preniknúť sm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žiaľ každý stíchne i bolestný vzdy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príde Pán v 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ých krás nebeských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39:08Z</dcterms:modified>
  <cp:revision>22</cp:revision>
  <dc:subject/>
  <dc:title>Je veľký náš Pán, on slávy je Kráľ Nech do všetkých strán  spev vrúcnych znie chvál.</dc:title>
</cp:coreProperties>
</file>